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what is the same? What is diffe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ay LOOK different but when you examine the “criteria” for the pattern – the differences seems to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identify the constant and the factor of change – the rules and the graphs are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generalization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 on what you have done today and discuss how these learning activities might be used to have students demonstrate some of these number sense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this sessions we are going to examine what math students in K-4 CAN do – rather than planning lessons specifically ,mapped to curriculum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very action, there is something motivating it. What might be the GOAL set by the person doing each 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 K-4 we are NOT starting with learning goals and consolidating questions … however we still 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uggestions on document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ge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rule – start at 1 and increase by 1 each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rule – constant 1 increase by 1(multipli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B96E-6036-4FD8-B34B-5021F7D32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196B-773C-4D10-9552-AC542C73B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07F5-7411-4B6B-A2AE-0EE5D7B0C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3891-E504-4E46-89CE-3145D1268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70D44-EB70-46CF-A225-91596AE545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9C631-9857-48F3-B82B-B3EA36E4E3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8FF3-11CD-4A4F-915D-CA9A103545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DB5A4-FE40-450A-991D-41D08BAC08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F8F5-D412-40BC-9C35-D2A426CF25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975D4-4900-4997-8813-C4BB904E9B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DB77-8A66-43B7-B659-506E98F625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90FD-9202-45C7-9B22-E47409650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B56E-2E96-4F02-AA08-B9600C28DA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7546-F77D-4336-8CEC-E22784FBB8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AA1A-9822-49FA-A415-49448D020C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A5E7F-821E-4A83-A14B-68AE5AFAA8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4D59-10F7-4034-BA24-49362A83E4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C141-5A92-4009-B73F-080AF0137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3F0E-82C5-4EA6-BF66-7F045A930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FEDB-0CAE-4203-AB6C-474BD5AE3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831C-9B09-41E2-90CC-E3762CD05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5AD5-92FA-40CE-ACFB-0944FD2E9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7F78-11BC-475A-B544-6EC6D7838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7810-1788-426F-BAE3-E4D3D5670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F166-16C9-4B6F-9683-C52DAA26E8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447D-1CD0-4C57-A713-24B4B1C7FA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-68580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48B2-518D-45EC-9F56-4C13B327FD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09480" y="457200"/>
            <a:ext cx="8077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Breakout 2</a:t>
            </a:r>
            <a:br>
              <a:rPr sz="4800"/>
            </a:b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Patterning and Algeb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creen shot 2011-08-08 at 8.32.19 AM.png"/>
          <p:cNvPicPr/>
          <p:nvPr/>
        </p:nvPicPr>
        <p:blipFill>
          <a:blip r:embed="rId3"/>
          <a:srcRect l="0" t="0" r="4922" b="0"/>
          <a:stretch/>
        </p:blipFill>
        <p:spPr>
          <a:xfrm>
            <a:off x="4727520" y="2666880"/>
            <a:ext cx="4416480" cy="3505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8000"/>
                </a:solidFill>
                <a:latin typeface="Arial"/>
              </a:rPr>
              <a:t>Building Learning Goals and Consolidating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 agai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5C91-BE08-4E96-95DD-812028F7D6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4876920" y="2743200"/>
            <a:ext cx="2438280" cy="1066680"/>
            <a:chOff x="4876920" y="2743200"/>
            <a:chExt cx="2438280" cy="1066680"/>
          </a:xfrm>
        </p:grpSpPr>
        <p:sp>
          <p:nvSpPr>
            <p:cNvPr id="159" name="Rectangle 5"/>
            <p:cNvSpPr/>
            <p:nvPr/>
          </p:nvSpPr>
          <p:spPr>
            <a:xfrm>
              <a:off x="4876920" y="2743200"/>
              <a:ext cx="914400" cy="1066680"/>
            </a:xfrm>
            <a:prstGeom prst="rect">
              <a:avLst/>
            </a:prstGeom>
            <a:noFill/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6"/>
            <p:cNvSpPr/>
            <p:nvPr/>
          </p:nvSpPr>
          <p:spPr>
            <a:xfrm>
              <a:off x="6400800" y="2743200"/>
              <a:ext cx="914400" cy="106668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Content Placeholder 4"/>
          <p:cNvSpPr/>
          <p:nvPr/>
        </p:nvSpPr>
        <p:spPr>
          <a:xfrm>
            <a:off x="533520" y="2209680"/>
            <a:ext cx="82296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Number of bloc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= position number x      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ontent Placeholder 4"/>
          <p:cNvSpPr/>
          <p:nvPr/>
        </p:nvSpPr>
        <p:spPr>
          <a:xfrm>
            <a:off x="3809880" y="3962520"/>
            <a:ext cx="3886200" cy="174204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 pattern r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560" y="2437920"/>
            <a:ext cx="4190760" cy="20574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 fontScale="93000"/>
          </a:bodyPr>
          <a:p>
            <a:pPr marL="35568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rowing pattern r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568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ontent Placeholder 6" descr=""/>
          <p:cNvPicPr/>
          <p:nvPr/>
        </p:nvPicPr>
        <p:blipFill>
          <a:blip r:embed="rId1"/>
          <a:stretch/>
        </p:blipFill>
        <p:spPr>
          <a:xfrm>
            <a:off x="4632480" y="2425680"/>
            <a:ext cx="4298760" cy="208584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9891-E2E6-4D88-8ECE-A40B39FFE1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, how will we re-present this pattern graphically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0DC2-FAA7-4294-A0F1-4090A13EBD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Screen shot 2011-08-08 at 12.56.06 PM.png"/>
          <p:cNvPicPr/>
          <p:nvPr/>
        </p:nvPicPr>
        <p:blipFill>
          <a:blip r:embed="rId1"/>
          <a:stretch/>
        </p:blipFill>
        <p:spPr>
          <a:xfrm>
            <a:off x="1066680" y="2438280"/>
            <a:ext cx="6782040" cy="37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ut for childre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 snake that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ing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ng to a different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8BCB-F86C-40DA-BE9B-9A0CE6DF1A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CLIPART:Animals (Part 2):Cartoons (Sn - To):Snake - Nutty.wmf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3200400"/>
          </a:xfrm>
          <a:prstGeom prst="rect">
            <a:avLst/>
          </a:prstGeom>
          <a:ln w="0">
            <a:noFill/>
          </a:ln>
        </p:spPr>
      </p:pic>
      <p:sp>
        <p:nvSpPr>
          <p:cNvPr id="176" name="Cube 6"/>
          <p:cNvSpPr/>
          <p:nvPr/>
        </p:nvSpPr>
        <p:spPr>
          <a:xfrm>
            <a:off x="76212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be 7"/>
          <p:cNvSpPr/>
          <p:nvPr/>
        </p:nvSpPr>
        <p:spPr>
          <a:xfrm>
            <a:off x="342900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be 8"/>
          <p:cNvSpPr/>
          <p:nvPr/>
        </p:nvSpPr>
        <p:spPr>
          <a:xfrm>
            <a:off x="373392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be 9"/>
          <p:cNvSpPr/>
          <p:nvPr/>
        </p:nvSpPr>
        <p:spPr>
          <a:xfrm>
            <a:off x="403848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ube 10"/>
          <p:cNvSpPr/>
          <p:nvPr/>
        </p:nvSpPr>
        <p:spPr>
          <a:xfrm>
            <a:off x="175248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ube 11"/>
          <p:cNvSpPr/>
          <p:nvPr/>
        </p:nvSpPr>
        <p:spPr>
          <a:xfrm>
            <a:off x="205740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8539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wing Patter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ADCD-CB58-4401-99EB-0CB51C37D3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3"/>
          <p:cNvGrpSpPr/>
          <p:nvPr/>
        </p:nvGrpSpPr>
        <p:grpSpPr>
          <a:xfrm>
            <a:off x="1066680" y="1523880"/>
            <a:ext cx="6248520" cy="4047120"/>
            <a:chOff x="1066680" y="1523880"/>
            <a:chExt cx="6248520" cy="4047120"/>
          </a:xfrm>
        </p:grpSpPr>
        <p:grpSp>
          <p:nvGrpSpPr>
            <p:cNvPr id="186" name="Group 28"/>
            <p:cNvGrpSpPr/>
            <p:nvPr/>
          </p:nvGrpSpPr>
          <p:grpSpPr>
            <a:xfrm>
              <a:off x="1066680" y="1523880"/>
              <a:ext cx="1688760" cy="1644840"/>
              <a:chOff x="1066680" y="1523880"/>
              <a:chExt cx="1688760" cy="1644840"/>
            </a:xfrm>
          </p:grpSpPr>
          <p:sp>
            <p:nvSpPr>
              <p:cNvPr id="187" name="Rectangle 5"/>
              <p:cNvSpPr/>
              <p:nvPr/>
            </p:nvSpPr>
            <p:spPr>
              <a:xfrm>
                <a:off x="106668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148860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174204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Box 20"/>
              <p:cNvSpPr/>
              <p:nvPr/>
            </p:nvSpPr>
            <p:spPr>
              <a:xfrm>
                <a:off x="1573200" y="276984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24"/>
            <p:cNvGrpSpPr/>
            <p:nvPr/>
          </p:nvGrpSpPr>
          <p:grpSpPr>
            <a:xfrm>
              <a:off x="3346560" y="1523880"/>
              <a:ext cx="1688760" cy="1644840"/>
              <a:chOff x="3346560" y="1523880"/>
              <a:chExt cx="1688760" cy="1644840"/>
            </a:xfrm>
          </p:grpSpPr>
          <p:sp>
            <p:nvSpPr>
              <p:cNvPr id="192" name="Rectangle 6"/>
              <p:cNvSpPr/>
              <p:nvPr/>
            </p:nvSpPr>
            <p:spPr>
              <a:xfrm>
                <a:off x="334656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0"/>
              <p:cNvSpPr/>
              <p:nvPr/>
            </p:nvSpPr>
            <p:spPr>
              <a:xfrm>
                <a:off x="385308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1"/>
              <p:cNvSpPr/>
              <p:nvPr/>
            </p:nvSpPr>
            <p:spPr>
              <a:xfrm>
                <a:off x="410652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2"/>
              <p:cNvSpPr/>
              <p:nvPr/>
            </p:nvSpPr>
            <p:spPr>
              <a:xfrm>
                <a:off x="385308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3"/>
              <p:cNvSpPr/>
              <p:nvPr/>
            </p:nvSpPr>
            <p:spPr>
              <a:xfrm>
                <a:off x="41065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Box 21"/>
              <p:cNvSpPr/>
              <p:nvPr/>
            </p:nvSpPr>
            <p:spPr>
              <a:xfrm>
                <a:off x="3937680" y="276984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3"/>
            <p:cNvGrpSpPr/>
            <p:nvPr/>
          </p:nvGrpSpPr>
          <p:grpSpPr>
            <a:xfrm>
              <a:off x="5542200" y="1523880"/>
              <a:ext cx="1688760" cy="1644840"/>
              <a:chOff x="5542200" y="1523880"/>
              <a:chExt cx="1688760" cy="1644840"/>
            </a:xfrm>
          </p:grpSpPr>
          <p:sp>
            <p:nvSpPr>
              <p:cNvPr id="199" name="Rectangle 7"/>
              <p:cNvSpPr/>
              <p:nvPr/>
            </p:nvSpPr>
            <p:spPr>
              <a:xfrm>
                <a:off x="554220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4"/>
              <p:cNvSpPr/>
              <p:nvPr/>
            </p:nvSpPr>
            <p:spPr>
              <a:xfrm>
                <a:off x="613332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5"/>
              <p:cNvSpPr/>
              <p:nvPr/>
            </p:nvSpPr>
            <p:spPr>
              <a:xfrm>
                <a:off x="638640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6"/>
              <p:cNvSpPr/>
              <p:nvPr/>
            </p:nvSpPr>
            <p:spPr>
              <a:xfrm>
                <a:off x="61333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"/>
              <p:cNvSpPr/>
              <p:nvPr/>
            </p:nvSpPr>
            <p:spPr>
              <a:xfrm>
                <a:off x="638640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8"/>
              <p:cNvSpPr/>
              <p:nvPr/>
            </p:nvSpPr>
            <p:spPr>
              <a:xfrm>
                <a:off x="6133320" y="196884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9"/>
              <p:cNvSpPr/>
              <p:nvPr/>
            </p:nvSpPr>
            <p:spPr>
              <a:xfrm>
                <a:off x="6386400" y="196884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Box 22"/>
              <p:cNvSpPr/>
              <p:nvPr/>
            </p:nvSpPr>
            <p:spPr>
              <a:xfrm>
                <a:off x="6302160" y="276984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4"/>
            <p:cNvGrpSpPr/>
            <p:nvPr/>
          </p:nvGrpSpPr>
          <p:grpSpPr>
            <a:xfrm>
              <a:off x="1066680" y="3926160"/>
              <a:ext cx="5797800" cy="1644840"/>
              <a:chOff x="1066680" y="3926160"/>
              <a:chExt cx="5797800" cy="1644840"/>
            </a:xfrm>
          </p:grpSpPr>
          <p:sp>
            <p:nvSpPr>
              <p:cNvPr id="208" name="Rectangle 25"/>
              <p:cNvSpPr/>
              <p:nvPr/>
            </p:nvSpPr>
            <p:spPr>
              <a:xfrm>
                <a:off x="1066680" y="39261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26"/>
              <p:cNvSpPr/>
              <p:nvPr/>
            </p:nvSpPr>
            <p:spPr>
              <a:xfrm>
                <a:off x="1488600" y="472716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Box 27"/>
              <p:cNvSpPr/>
              <p:nvPr/>
            </p:nvSpPr>
            <p:spPr>
              <a:xfrm>
                <a:off x="1573200" y="517212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Box 27"/>
              <p:cNvSpPr/>
              <p:nvPr/>
            </p:nvSpPr>
            <p:spPr>
              <a:xfrm>
                <a:off x="3810240" y="5172120"/>
                <a:ext cx="844200" cy="398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Box 27"/>
              <p:cNvSpPr/>
              <p:nvPr/>
            </p:nvSpPr>
            <p:spPr>
              <a:xfrm>
                <a:off x="6020280" y="5172120"/>
                <a:ext cx="844200" cy="398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43"/>
            <p:cNvGrpSpPr/>
            <p:nvPr/>
          </p:nvGrpSpPr>
          <p:grpSpPr>
            <a:xfrm>
              <a:off x="3430800" y="3926160"/>
              <a:ext cx="1688760" cy="1156680"/>
              <a:chOff x="3430800" y="3926160"/>
              <a:chExt cx="1688760" cy="1156680"/>
            </a:xfrm>
          </p:grpSpPr>
          <p:sp>
            <p:nvSpPr>
              <p:cNvPr id="214" name="Rectangle 29"/>
              <p:cNvSpPr/>
              <p:nvPr/>
            </p:nvSpPr>
            <p:spPr>
              <a:xfrm>
                <a:off x="3430800" y="39261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30"/>
              <p:cNvSpPr/>
              <p:nvPr/>
            </p:nvSpPr>
            <p:spPr>
              <a:xfrm>
                <a:off x="3852720" y="472716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32"/>
              <p:cNvSpPr/>
              <p:nvPr/>
            </p:nvSpPr>
            <p:spPr>
              <a:xfrm>
                <a:off x="3852720" y="454896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33"/>
              <p:cNvSpPr/>
              <p:nvPr/>
            </p:nvSpPr>
            <p:spPr>
              <a:xfrm>
                <a:off x="3852720" y="43711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Rectangle 34"/>
            <p:cNvSpPr/>
            <p:nvPr/>
          </p:nvSpPr>
          <p:spPr>
            <a:xfrm>
              <a:off x="5626440" y="3926160"/>
              <a:ext cx="1688760" cy="1156680"/>
            </a:xfrm>
            <a:prstGeom prst="rect">
              <a:avLst/>
            </a:prstGeom>
            <a:solidFill>
              <a:srgbClr val="73d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5"/>
            <p:cNvSpPr/>
            <p:nvPr/>
          </p:nvSpPr>
          <p:spPr>
            <a:xfrm>
              <a:off x="6048720" y="472716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8"/>
            <p:cNvSpPr/>
            <p:nvPr/>
          </p:nvSpPr>
          <p:spPr>
            <a:xfrm>
              <a:off x="6048720" y="437112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41"/>
            <p:cNvGrpSpPr/>
            <p:nvPr/>
          </p:nvGrpSpPr>
          <p:grpSpPr>
            <a:xfrm>
              <a:off x="6048720" y="4193280"/>
              <a:ext cx="253080" cy="533880"/>
              <a:chOff x="6048720" y="4193280"/>
              <a:chExt cx="253080" cy="533880"/>
            </a:xfrm>
          </p:grpSpPr>
          <p:sp>
            <p:nvSpPr>
              <p:cNvPr id="222" name="Rectangle 37"/>
              <p:cNvSpPr/>
              <p:nvPr/>
            </p:nvSpPr>
            <p:spPr>
              <a:xfrm>
                <a:off x="6048720" y="45493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39"/>
              <p:cNvSpPr/>
              <p:nvPr/>
            </p:nvSpPr>
            <p:spPr>
              <a:xfrm>
                <a:off x="6048720" y="419328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40"/>
            <p:cNvSpPr/>
            <p:nvPr/>
          </p:nvSpPr>
          <p:spPr>
            <a:xfrm>
              <a:off x="6048720" y="401544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44"/>
          <p:cNvSpPr/>
          <p:nvPr/>
        </p:nvSpPr>
        <p:spPr>
          <a:xfrm>
            <a:off x="457200" y="614988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py – extend – represent – cre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61722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380988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13716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1371600" y="5181480"/>
            <a:ext cx="685800" cy="38124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Your Turn – pick 1, copy, exten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796D-3B78-4A54-8B6F-73B0231064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1066680" y="1523880"/>
            <a:ext cx="6248520" cy="4352400"/>
            <a:chOff x="1066680" y="1523880"/>
            <a:chExt cx="6248520" cy="4352400"/>
          </a:xfrm>
        </p:grpSpPr>
        <p:grpSp>
          <p:nvGrpSpPr>
            <p:cNvPr id="233" name="Group 28"/>
            <p:cNvGrpSpPr/>
            <p:nvPr/>
          </p:nvGrpSpPr>
          <p:grpSpPr>
            <a:xfrm>
              <a:off x="1066680" y="1523880"/>
              <a:ext cx="1688760" cy="1644840"/>
              <a:chOff x="1066680" y="1523880"/>
              <a:chExt cx="1688760" cy="1644840"/>
            </a:xfrm>
          </p:grpSpPr>
          <p:sp>
            <p:nvSpPr>
              <p:cNvPr id="234" name="Rectangle 5"/>
              <p:cNvSpPr/>
              <p:nvPr/>
            </p:nvSpPr>
            <p:spPr>
              <a:xfrm>
                <a:off x="106668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8"/>
              <p:cNvSpPr/>
              <p:nvPr/>
            </p:nvSpPr>
            <p:spPr>
              <a:xfrm>
                <a:off x="148860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9"/>
              <p:cNvSpPr/>
              <p:nvPr/>
            </p:nvSpPr>
            <p:spPr>
              <a:xfrm>
                <a:off x="174204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20"/>
              <p:cNvSpPr/>
              <p:nvPr/>
            </p:nvSpPr>
            <p:spPr>
              <a:xfrm>
                <a:off x="1573200" y="276984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24"/>
            <p:cNvGrpSpPr/>
            <p:nvPr/>
          </p:nvGrpSpPr>
          <p:grpSpPr>
            <a:xfrm>
              <a:off x="3346560" y="1523880"/>
              <a:ext cx="1688760" cy="1644840"/>
              <a:chOff x="3346560" y="1523880"/>
              <a:chExt cx="1688760" cy="1644840"/>
            </a:xfrm>
          </p:grpSpPr>
          <p:sp>
            <p:nvSpPr>
              <p:cNvPr id="239" name="Rectangle 6"/>
              <p:cNvSpPr/>
              <p:nvPr/>
            </p:nvSpPr>
            <p:spPr>
              <a:xfrm>
                <a:off x="334656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10"/>
              <p:cNvSpPr/>
              <p:nvPr/>
            </p:nvSpPr>
            <p:spPr>
              <a:xfrm>
                <a:off x="385308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11"/>
              <p:cNvSpPr/>
              <p:nvPr/>
            </p:nvSpPr>
            <p:spPr>
              <a:xfrm>
                <a:off x="410652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12"/>
              <p:cNvSpPr/>
              <p:nvPr/>
            </p:nvSpPr>
            <p:spPr>
              <a:xfrm>
                <a:off x="385308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Box 21"/>
              <p:cNvSpPr/>
              <p:nvPr/>
            </p:nvSpPr>
            <p:spPr>
              <a:xfrm>
                <a:off x="3937680" y="276984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23"/>
            <p:cNvGrpSpPr/>
            <p:nvPr/>
          </p:nvGrpSpPr>
          <p:grpSpPr>
            <a:xfrm>
              <a:off x="5542200" y="1523880"/>
              <a:ext cx="1688760" cy="1644840"/>
              <a:chOff x="5542200" y="1523880"/>
              <a:chExt cx="1688760" cy="1644840"/>
            </a:xfrm>
          </p:grpSpPr>
          <p:sp>
            <p:nvSpPr>
              <p:cNvPr id="245" name="Rectangle 7"/>
              <p:cNvSpPr/>
              <p:nvPr/>
            </p:nvSpPr>
            <p:spPr>
              <a:xfrm>
                <a:off x="554220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14"/>
              <p:cNvSpPr/>
              <p:nvPr/>
            </p:nvSpPr>
            <p:spPr>
              <a:xfrm>
                <a:off x="613332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5"/>
              <p:cNvSpPr/>
              <p:nvPr/>
            </p:nvSpPr>
            <p:spPr>
              <a:xfrm>
                <a:off x="638640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16"/>
              <p:cNvSpPr/>
              <p:nvPr/>
            </p:nvSpPr>
            <p:spPr>
              <a:xfrm>
                <a:off x="61333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8"/>
              <p:cNvSpPr/>
              <p:nvPr/>
            </p:nvSpPr>
            <p:spPr>
              <a:xfrm>
                <a:off x="6133320" y="196884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Box 22"/>
              <p:cNvSpPr/>
              <p:nvPr/>
            </p:nvSpPr>
            <p:spPr>
              <a:xfrm>
                <a:off x="6302160" y="276984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44"/>
            <p:cNvGrpSpPr/>
            <p:nvPr/>
          </p:nvGrpSpPr>
          <p:grpSpPr>
            <a:xfrm>
              <a:off x="1066680" y="3926520"/>
              <a:ext cx="1688760" cy="1644840"/>
              <a:chOff x="1066680" y="3926520"/>
              <a:chExt cx="1688760" cy="1644840"/>
            </a:xfrm>
          </p:grpSpPr>
          <p:sp>
            <p:nvSpPr>
              <p:cNvPr id="252" name="Rectangle 25"/>
              <p:cNvSpPr/>
              <p:nvPr/>
            </p:nvSpPr>
            <p:spPr>
              <a:xfrm>
                <a:off x="1066680" y="392652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26"/>
              <p:cNvSpPr/>
              <p:nvPr/>
            </p:nvSpPr>
            <p:spPr>
              <a:xfrm>
                <a:off x="1488600" y="4727520"/>
                <a:ext cx="253080" cy="177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Box 27"/>
              <p:cNvSpPr/>
              <p:nvPr/>
            </p:nvSpPr>
            <p:spPr>
              <a:xfrm>
                <a:off x="1573200" y="517248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43"/>
            <p:cNvGrpSpPr/>
            <p:nvPr/>
          </p:nvGrpSpPr>
          <p:grpSpPr>
            <a:xfrm>
              <a:off x="3430800" y="3926520"/>
              <a:ext cx="1688760" cy="1644840"/>
              <a:chOff x="3430800" y="3926520"/>
              <a:chExt cx="1688760" cy="1644840"/>
            </a:xfrm>
          </p:grpSpPr>
          <p:sp>
            <p:nvSpPr>
              <p:cNvPr id="256" name="Rectangle 29"/>
              <p:cNvSpPr/>
              <p:nvPr/>
            </p:nvSpPr>
            <p:spPr>
              <a:xfrm>
                <a:off x="3430800" y="392652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30"/>
              <p:cNvSpPr/>
              <p:nvPr/>
            </p:nvSpPr>
            <p:spPr>
              <a:xfrm>
                <a:off x="3852720" y="4727520"/>
                <a:ext cx="253080" cy="177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31"/>
              <p:cNvSpPr/>
              <p:nvPr/>
            </p:nvSpPr>
            <p:spPr>
              <a:xfrm>
                <a:off x="3937320" y="517248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32"/>
              <p:cNvSpPr/>
              <p:nvPr/>
            </p:nvSpPr>
            <p:spPr>
              <a:xfrm>
                <a:off x="3852720" y="454932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33"/>
              <p:cNvSpPr/>
              <p:nvPr/>
            </p:nvSpPr>
            <p:spPr>
              <a:xfrm>
                <a:off x="3852720" y="437148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Rectangle 34"/>
            <p:cNvSpPr/>
            <p:nvPr/>
          </p:nvSpPr>
          <p:spPr>
            <a:xfrm>
              <a:off x="5626440" y="3926520"/>
              <a:ext cx="1688760" cy="1156680"/>
            </a:xfrm>
            <a:prstGeom prst="rect">
              <a:avLst/>
            </a:prstGeom>
            <a:solidFill>
              <a:srgbClr val="73d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5"/>
            <p:cNvSpPr/>
            <p:nvPr/>
          </p:nvSpPr>
          <p:spPr>
            <a:xfrm>
              <a:off x="6019920" y="4727520"/>
              <a:ext cx="253080" cy="1778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36"/>
            <p:cNvSpPr/>
            <p:nvPr/>
          </p:nvSpPr>
          <p:spPr>
            <a:xfrm>
              <a:off x="6133320" y="5172480"/>
              <a:ext cx="844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8"/>
            <p:cNvSpPr/>
            <p:nvPr/>
          </p:nvSpPr>
          <p:spPr>
            <a:xfrm>
              <a:off x="6019920" y="4394520"/>
              <a:ext cx="253080" cy="177840"/>
            </a:xfrm>
            <a:prstGeom prst="rect">
              <a:avLst/>
            </a:prstGeom>
            <a:solidFill>
              <a:srgbClr val="ff1cf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41"/>
            <p:cNvGrpSpPr/>
            <p:nvPr/>
          </p:nvGrpSpPr>
          <p:grpSpPr>
            <a:xfrm>
              <a:off x="6248520" y="4394520"/>
              <a:ext cx="253080" cy="355680"/>
              <a:chOff x="6248520" y="4394520"/>
              <a:chExt cx="253080" cy="355680"/>
            </a:xfrm>
          </p:grpSpPr>
          <p:sp>
            <p:nvSpPr>
              <p:cNvPr id="266" name="Rectangle 37"/>
              <p:cNvSpPr/>
              <p:nvPr/>
            </p:nvSpPr>
            <p:spPr>
              <a:xfrm>
                <a:off x="6248520" y="457236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9"/>
              <p:cNvSpPr/>
              <p:nvPr/>
            </p:nvSpPr>
            <p:spPr>
              <a:xfrm>
                <a:off x="6248520" y="439452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Rectangle 40"/>
            <p:cNvSpPr/>
            <p:nvPr/>
          </p:nvSpPr>
          <p:spPr>
            <a:xfrm>
              <a:off x="6019920" y="4546800"/>
              <a:ext cx="253080" cy="177840"/>
            </a:xfrm>
            <a:prstGeom prst="rect">
              <a:avLst/>
            </a:prstGeom>
            <a:solidFill>
              <a:srgbClr val="ff1cf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Box 44"/>
          <p:cNvSpPr/>
          <p:nvPr/>
        </p:nvSpPr>
        <p:spPr>
          <a:xfrm>
            <a:off x="228600" y="19051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5"/>
          <p:cNvSpPr/>
          <p:nvPr/>
        </p:nvSpPr>
        <p:spPr>
          <a:xfrm>
            <a:off x="228600" y="43434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380988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5"/>
          <p:cNvSpPr/>
          <p:nvPr/>
        </p:nvSpPr>
        <p:spPr>
          <a:xfrm>
            <a:off x="13716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6"/>
          <p:cNvSpPr/>
          <p:nvPr/>
        </p:nvSpPr>
        <p:spPr>
          <a:xfrm>
            <a:off x="61722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25"/>
          <p:cNvSpPr/>
          <p:nvPr/>
        </p:nvSpPr>
        <p:spPr>
          <a:xfrm>
            <a:off x="617220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26"/>
          <p:cNvSpPr/>
          <p:nvPr/>
        </p:nvSpPr>
        <p:spPr>
          <a:xfrm>
            <a:off x="373392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7"/>
          <p:cNvSpPr/>
          <p:nvPr/>
        </p:nvSpPr>
        <p:spPr>
          <a:xfrm>
            <a:off x="144792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itle 1"/>
          <p:cNvSpPr/>
          <p:nvPr/>
        </p:nvSpPr>
        <p:spPr>
          <a:xfrm>
            <a:off x="533520" y="5827680"/>
            <a:ext cx="784836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ctr">
            <a:noAutofit/>
          </a:bodyPr>
          <a:p>
            <a:pPr marL="39600" indent="-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2 kinds of Pattern Rules and grap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wing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ing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by which the pattern cha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464E-8892-4D7D-82FC-3C4A7F61F5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282" name="Content Placeholder 4"/>
          <p:cNvSpPr/>
          <p:nvPr/>
        </p:nvSpPr>
        <p:spPr>
          <a:xfrm>
            <a:off x="609480" y="3657600"/>
            <a:ext cx="8229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pattern starts at           and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grows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943600" y="3505320"/>
            <a:ext cx="914400" cy="1066680"/>
          </a:xfrm>
          <a:prstGeom prst="rect">
            <a:avLst/>
          </a:pr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4572000" y="4191120"/>
            <a:ext cx="914400" cy="1066680"/>
          </a:xfrm>
          <a:prstGeom prst="rect">
            <a:avLst/>
          </a:pr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ition Number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plic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F145-0ECF-4281-91AF-F884F96FC7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5"/>
          <p:cNvGrpSpPr/>
          <p:nvPr/>
        </p:nvGrpSpPr>
        <p:grpSpPr>
          <a:xfrm>
            <a:off x="5867280" y="3505320"/>
            <a:ext cx="2438640" cy="1066680"/>
            <a:chOff x="5867280" y="3505320"/>
            <a:chExt cx="2438640" cy="1066680"/>
          </a:xfrm>
        </p:grpSpPr>
        <p:sp>
          <p:nvSpPr>
            <p:cNvPr id="290" name="Rectangle 6"/>
            <p:cNvSpPr/>
            <p:nvPr/>
          </p:nvSpPr>
          <p:spPr>
            <a:xfrm>
              <a:off x="5867280" y="3505320"/>
              <a:ext cx="914400" cy="1066680"/>
            </a:xfrm>
            <a:prstGeom prst="rect">
              <a:avLst/>
            </a:prstGeom>
            <a:noFill/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"/>
            <p:cNvSpPr/>
            <p:nvPr/>
          </p:nvSpPr>
          <p:spPr>
            <a:xfrm>
              <a:off x="7391520" y="3505320"/>
              <a:ext cx="914400" cy="106668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Content Placeholder 4"/>
          <p:cNvSpPr/>
          <p:nvPr/>
        </p:nvSpPr>
        <p:spPr>
          <a:xfrm>
            <a:off x="609480" y="3657600"/>
            <a:ext cx="82296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position number x      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52578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5257800"/>
          </a:xfrm>
          <a:prstGeom prst="rect">
            <a:avLst/>
          </a:prstGeom>
          <a:ln w="0">
            <a:noFill/>
          </a:ln>
        </p:spPr>
      </p:pic>
      <p:sp>
        <p:nvSpPr>
          <p:cNvPr id="296" name="Slide Number Placeholder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DC21-23CB-4E9F-8231-3D7890A6F5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Macintosh HD:Users:kathkubo:Desktop:Screen shot 2011-08-07 at 1.15.13 PM.pn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90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NSN Expecta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51920" y="990720"/>
            <a:ext cx="4343400" cy="5867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/>
          </a:bodyPr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derg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 relationships; counting; operational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, using concrete materials, the concept of one-to-one correspondence between number and objects when 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forward by 1’s, 2’s, 5’s, 10’s, and 25’s to 200, using number lines and hundreds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and explain, through investigation using concrete materials and drawings, multiplication as the combining of equa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495320" y="990720"/>
            <a:ext cx="4419720" cy="586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 fontScale="98000"/>
          </a:bodyPr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forward by 1’s, 2’s, 5’s, 10’s, and 100’s to 1000 from various starting points, and by 25’s to 1000 starting from multiples of 25, using a variety of tool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each term in a growing or shrinking pattern with its term number, and record the patterns in a table of values that shows the term number and the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umber pattern involving addition, subtraction, or multiplication, given a pattern rule expressed i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578C-B588-4A78-9E16-42621DC3BF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urious 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9520" y="1599840"/>
            <a:ext cx="4876920" cy="426708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is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a rec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ainstorm “goals” that may have motivated each “Curious Ac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er be ready to repor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6F41-39AF-4C03-9163-97F63D1DD6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17"/>
          <p:cNvGrpSpPr/>
          <p:nvPr/>
        </p:nvGrpSpPr>
        <p:grpSpPr>
          <a:xfrm>
            <a:off x="914400" y="1906560"/>
            <a:ext cx="3362400" cy="3990960"/>
            <a:chOff x="914400" y="1906560"/>
            <a:chExt cx="3362400" cy="3990960"/>
          </a:xfrm>
        </p:grpSpPr>
        <p:pic>
          <p:nvPicPr>
            <p:cNvPr id="94" name="Picture 8" descr="Screen shot 2011-08-08 at 12.30.10 PM.png"/>
            <p:cNvPicPr/>
            <p:nvPr/>
          </p:nvPicPr>
          <p:blipFill>
            <a:blip r:embed="rId2"/>
            <a:stretch/>
          </p:blipFill>
          <p:spPr>
            <a:xfrm>
              <a:off x="914400" y="2057040"/>
              <a:ext cx="3362400" cy="384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16"/>
            <p:cNvGrpSpPr/>
            <p:nvPr/>
          </p:nvGrpSpPr>
          <p:grpSpPr>
            <a:xfrm>
              <a:off x="3810240" y="1906560"/>
              <a:ext cx="457200" cy="3961800"/>
              <a:chOff x="3810240" y="1906560"/>
              <a:chExt cx="457200" cy="3961800"/>
            </a:xfrm>
          </p:grpSpPr>
          <p:sp>
            <p:nvSpPr>
              <p:cNvPr id="96" name="Straight Connector 7"/>
              <p:cNvSpPr/>
              <p:nvPr/>
            </p:nvSpPr>
            <p:spPr>
              <a:xfrm flipH="1">
                <a:off x="3810240" y="1906560"/>
                <a:ext cx="1440" cy="1523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Straight Connector 9"/>
              <p:cNvSpPr/>
              <p:nvPr/>
            </p:nvSpPr>
            <p:spPr>
              <a:xfrm flipH="1">
                <a:off x="3810240" y="4267440"/>
                <a:ext cx="720" cy="456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Straight Connector 12"/>
              <p:cNvSpPr/>
              <p:nvPr/>
            </p:nvSpPr>
            <p:spPr>
              <a:xfrm flipH="1">
                <a:off x="3810240" y="5715360"/>
                <a:ext cx="360" cy="152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Straight Connector 15"/>
              <p:cNvSpPr/>
              <p:nvPr/>
            </p:nvSpPr>
            <p:spPr>
              <a:xfrm>
                <a:off x="3810960" y="5867640"/>
                <a:ext cx="4564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reate your Ow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a linear growing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the second term of your pattern on building mat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k your partn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rule describes this patt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ild the term for position 1 and position 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2D58-416D-44FE-8A62-5F9BFB552A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 pattern additions to cha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307" name="Content Placeholder 4" descr="Screen shot 2011-08-10 at 12.18.56 PM.png"/>
          <p:cNvPicPr/>
          <p:nvPr/>
        </p:nvPicPr>
        <p:blipFill>
          <a:blip r:embed="rId1"/>
          <a:srcRect l="18346" t="0" r="18346" b="0"/>
          <a:stretch/>
        </p:blipFill>
        <p:spPr>
          <a:xfrm>
            <a:off x="1523880" y="1371600"/>
            <a:ext cx="5943600" cy="5257800"/>
          </a:xfrm>
          <a:prstGeom prst="rect">
            <a:avLst/>
          </a:prstGeom>
          <a:ln w="0">
            <a:noFill/>
          </a:ln>
        </p:spPr>
      </p:pic>
      <p:sp>
        <p:nvSpPr>
          <p:cNvPr id="3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EFE6-5E7E-4074-9E15-CDA79F7DA6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1"/>
          <p:cNvGrpSpPr/>
          <p:nvPr/>
        </p:nvGrpSpPr>
        <p:grpSpPr>
          <a:xfrm>
            <a:off x="1905120" y="2133720"/>
            <a:ext cx="5486400" cy="2974320"/>
            <a:chOff x="1905120" y="2133720"/>
            <a:chExt cx="5486400" cy="2974320"/>
          </a:xfrm>
        </p:grpSpPr>
        <p:sp>
          <p:nvSpPr>
            <p:cNvPr id="310" name="TextBox 5"/>
            <p:cNvSpPr/>
            <p:nvPr/>
          </p:nvSpPr>
          <p:spPr>
            <a:xfrm>
              <a:off x="1905120" y="213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eat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6"/>
            <p:cNvSpPr/>
            <p:nvPr/>
          </p:nvSpPr>
          <p:spPr>
            <a:xfrm>
              <a:off x="5639040" y="21337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w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10"/>
            <p:cNvGrpSpPr/>
            <p:nvPr/>
          </p:nvGrpSpPr>
          <p:grpSpPr>
            <a:xfrm>
              <a:off x="3581280" y="4496040"/>
              <a:ext cx="1981080" cy="612000"/>
              <a:chOff x="3581280" y="4496040"/>
              <a:chExt cx="1981080" cy="612000"/>
            </a:xfrm>
          </p:grpSpPr>
          <p:sp>
            <p:nvSpPr>
              <p:cNvPr id="313" name="TextBox 7"/>
              <p:cNvSpPr/>
              <p:nvPr/>
            </p:nvSpPr>
            <p:spPr>
              <a:xfrm>
                <a:off x="3581280" y="46483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onnecti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4" name="Straight Arrow Connector 9"/>
              <p:cNvCxnSpPr/>
              <p:nvPr/>
            </p:nvCxnSpPr>
            <p:spPr>
              <a:xfrm>
                <a:off x="3733200" y="4496040"/>
                <a:ext cx="1600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</p:grpSp>
      </p:grpSp>
      <p:sp>
        <p:nvSpPr>
          <p:cNvPr id="315" name="TextBox 12"/>
          <p:cNvSpPr/>
          <p:nvPr/>
        </p:nvSpPr>
        <p:spPr>
          <a:xfrm>
            <a:off x="7551720" y="2209680"/>
            <a:ext cx="5461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14"/>
          <p:cNvCxnSpPr/>
          <p:nvPr/>
        </p:nvCxnSpPr>
        <p:spPr>
          <a:xfrm flipH="1">
            <a:off x="1142640" y="2438280"/>
            <a:ext cx="216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urious Actions – Journ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3C1D-B3C3-435F-AA19-5D251029BA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Screen shot 2011-08-08 at 12.28.41 PM.png"/>
          <p:cNvPicPr/>
          <p:nvPr/>
        </p:nvPicPr>
        <p:blipFill>
          <a:blip r:embed="rId2"/>
          <a:stretch/>
        </p:blipFill>
        <p:spPr>
          <a:xfrm>
            <a:off x="5622840" y="1752480"/>
            <a:ext cx="3521160" cy="3733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1282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98280" indent="-5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at curious actions did you participate in today’s breakout that you will influence your planning when getting ready to teach linear growing pattern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urious Action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oals and 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904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goals ensure 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gage students in significant mathema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 what to look for in stud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 identify the mathema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 what questions to pose to focus student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C614-BA2B-441C-BBAA-152D38545F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AAF8-B268-45DB-BC14-798BFEA9EB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76680" y="3047760"/>
            <a:ext cx="5257800" cy="3468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Tahoma"/>
              </a:rPr>
              <a:t>Multiple Representations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Tahoma"/>
              </a:rPr>
              <a:t>and Generaliz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09480" y="1066680"/>
            <a:ext cx="4191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Breakout 2</a:t>
            </a:r>
            <a:br>
              <a:rPr sz="4800"/>
            </a:b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Patterning and Algeb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Screen shot 2011-08-08 at 8.37.41 AM.png"/>
          <p:cNvPicPr/>
          <p:nvPr/>
        </p:nvPicPr>
        <p:blipFill>
          <a:blip r:embed="rId3"/>
          <a:stretch/>
        </p:blipFill>
        <p:spPr>
          <a:xfrm>
            <a:off x="6781680" y="1600200"/>
            <a:ext cx="2362320" cy="17128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10" name="Picture 8" descr="Screen shot 2011-08-08 at 8.38.16 AM.png"/>
          <p:cNvPicPr/>
          <p:nvPr/>
        </p:nvPicPr>
        <p:blipFill>
          <a:blip r:embed="rId4"/>
          <a:stretch/>
        </p:blipFill>
        <p:spPr>
          <a:xfrm>
            <a:off x="6773760" y="0"/>
            <a:ext cx="2370240" cy="16002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11" name="Picture 9" descr="Screen shot 2011-08-08 at 8.38.55 AM.png"/>
          <p:cNvPicPr/>
          <p:nvPr/>
        </p:nvPicPr>
        <p:blipFill>
          <a:blip r:embed="rId5"/>
          <a:stretch/>
        </p:blipFill>
        <p:spPr>
          <a:xfrm>
            <a:off x="5562720" y="3446640"/>
            <a:ext cx="3581280" cy="34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Screen shot 2011-08-08 at 8.50.51 AM.png"/>
          <p:cNvPicPr/>
          <p:nvPr/>
        </p:nvPicPr>
        <p:blipFill>
          <a:blip r:embed="rId1"/>
          <a:stretch/>
        </p:blipFill>
        <p:spPr>
          <a:xfrm>
            <a:off x="5486400" y="-152280"/>
            <a:ext cx="3657600" cy="2722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932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udy and re-present                                               growing patter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instructional                                           sequence – copy, extend, translate, 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preciate the use of building mats and position cards to identify patterning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rite growing pattern rules (additive, iterative def’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rite position pattern rules (multiplicative thinking, explicit def’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 thinking to generalizations strategies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8ADB-A02E-4606-992E-E4C6C34D16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26960" y="85680"/>
            <a:ext cx="8266320" cy="151776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7291-8D6F-4AD6-9EFE-4A44FA9B4F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6" descr="CLIPART:Animals (Part 2):Cartoons (Do - Du):Duck Stuck in Muck.wmf"/>
          <p:cNvPicPr/>
          <p:nvPr/>
        </p:nvPicPr>
        <p:blipFill>
          <a:blip r:embed="rId2"/>
          <a:stretch/>
        </p:blipFill>
        <p:spPr>
          <a:xfrm>
            <a:off x="5943600" y="304920"/>
            <a:ext cx="3200400" cy="3130560"/>
          </a:xfrm>
          <a:prstGeom prst="rect">
            <a:avLst/>
          </a:prstGeom>
          <a:ln w="0">
            <a:noFill/>
          </a:ln>
        </p:spPr>
      </p:pic>
      <p:pic>
        <p:nvPicPr>
          <p:cNvPr id="119" name="Content Placeholder 2" descr=""/>
          <p:cNvPicPr/>
          <p:nvPr/>
        </p:nvPicPr>
        <p:blipFill>
          <a:blip r:embed="rId3"/>
          <a:stretch/>
        </p:blipFill>
        <p:spPr>
          <a:xfrm>
            <a:off x="450720" y="1596960"/>
            <a:ext cx="6029280" cy="1530360"/>
          </a:xfrm>
          <a:prstGeom prst="rect">
            <a:avLst/>
          </a:prstGeom>
          <a:ln w="0">
            <a:noFill/>
          </a:ln>
        </p:spPr>
      </p:pic>
      <p:sp>
        <p:nvSpPr>
          <p:cNvPr id="120" name="Content Placeholder 2"/>
          <p:cNvSpPr/>
          <p:nvPr/>
        </p:nvSpPr>
        <p:spPr>
          <a:xfrm>
            <a:off x="457200" y="350532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You will ne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uilding 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osition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quare 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343400" y="3505320"/>
            <a:ext cx="4419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93600" indent="-5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ow many “animals, fish or insects” at the pond at each stage? Represent the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9" descr=""/>
          <p:cNvPicPr/>
          <p:nvPr/>
        </p:nvPicPr>
        <p:blipFill>
          <a:blip r:embed="rId1"/>
          <a:stretch/>
        </p:blipFill>
        <p:spPr>
          <a:xfrm>
            <a:off x="426960" y="85680"/>
            <a:ext cx="8266320" cy="151776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EA13-0EA1-4A65-8115-9C6156AD3F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6A34-F1E1-4536-A686-16F16DBE28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304920" y="1447920"/>
            <a:ext cx="2286000" cy="144756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3048120" y="1447920"/>
            <a:ext cx="2286000" cy="144756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30492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304812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586728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914400" y="2895480"/>
            <a:ext cx="9907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1"/>
          <p:cNvSpPr/>
          <p:nvPr/>
        </p:nvSpPr>
        <p:spPr>
          <a:xfrm>
            <a:off x="3733920" y="2895480"/>
            <a:ext cx="9903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914400" y="5562720"/>
            <a:ext cx="990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4"/>
          <p:cNvSpPr/>
          <p:nvPr/>
        </p:nvSpPr>
        <p:spPr>
          <a:xfrm>
            <a:off x="3733920" y="5562720"/>
            <a:ext cx="9903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5"/>
          <p:cNvSpPr/>
          <p:nvPr/>
        </p:nvSpPr>
        <p:spPr>
          <a:xfrm>
            <a:off x="6629400" y="5562720"/>
            <a:ext cx="9907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2362320" y="32767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2971800" y="3124080"/>
            <a:ext cx="30492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>
            <a:off x="1066680" y="35053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457200" y="30481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>
            <a:off x="1752480" y="3429000"/>
            <a:ext cx="30492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533520" y="34290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2895480" y="36576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>
            <a:off x="3657600" y="37339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>
            <a:off x="3581280" y="32767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6" descr="CLIPART:Animals (Part 2):Cartoons (Do - Du):Duck Stuck in Muck.wmf"/>
          <p:cNvPicPr/>
          <p:nvPr/>
        </p:nvPicPr>
        <p:blipFill>
          <a:blip r:embed="rId4"/>
          <a:stretch/>
        </p:blipFill>
        <p:spPr>
          <a:xfrm>
            <a:off x="5562720" y="457200"/>
            <a:ext cx="35812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itle 9" descr=""/>
          <p:cNvPicPr/>
          <p:nvPr/>
        </p:nvPicPr>
        <p:blipFill>
          <a:blip r:embed="rId1"/>
          <a:stretch/>
        </p:blipFill>
        <p:spPr>
          <a:xfrm>
            <a:off x="426960" y="85680"/>
            <a:ext cx="8266320" cy="1517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38088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 of ou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401B-C223-4843-96B5-6FAC9AB576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78EB-1B6A-435C-A6F4-19EF8BC312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 how would a student describe this patte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199D-D295-40B1-93A0-5DF91AB8FC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904760"/>
            <a:ext cx="8229600" cy="12999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5"/>
          <p:cNvSpPr/>
          <p:nvPr/>
        </p:nvSpPr>
        <p:spPr>
          <a:xfrm>
            <a:off x="4343400" y="3429000"/>
            <a:ext cx="4191120" cy="20574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mic Sans MS"/>
              </a:rPr>
              <a:t>Growing pattern r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14:51:22Z</dcterms:created>
  <dc:creator>CSC</dc:creator>
  <dc:description/>
  <cp:keywords/>
  <dc:language>en-US</dc:language>
  <cp:lastModifiedBy>Kathy Kubota-Zarivnij</cp:lastModifiedBy>
  <cp:lastPrinted>2011-08-10T21:53:33Z</cp:lastPrinted>
  <dcterms:modified xsi:type="dcterms:W3CDTF">2011-08-16T16:01:53Z</dcterms:modified>
  <cp:revision>33</cp:revision>
  <dc:subject/>
  <dc:title>&lt;Title&gt;</dc:title>
</cp:coreProperties>
</file>